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5241-AA34-4335-B923-C5A6B45D6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4C2-5D23-4DB3-930A-DDD11835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850-83A0-4AD7-9BC3-E28C369F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87D-AF72-45EB-AC6C-94F980BF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DD8-791D-4CE0-9248-121EEC7B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71E2-E4A5-4CCB-B8EE-B58847F0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8228-9448-47F8-A4AE-48BD1253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7522-4314-40A3-8706-711397AB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D7D8-2362-4048-8E40-D16D4B50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5EB9-4D06-4590-8A31-C03420E9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00BC-F5A9-4272-9BBC-8EE5B6E4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612D-D739-4315-8455-0EC42E8E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9D1-5DF4-4E41-8DAA-407044BE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7CE9-AD82-4DD9-BFD7-2C7EFF8F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44C8-D8C3-4E34-BF84-D2DBAE3F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59D2-862D-47DB-9C98-672F6F26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D9A6-C102-4F78-B5CD-EC969CCA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A43D-23F2-43E7-A56B-6DBE57B3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E0EDF-3AE0-42E7-8CD0-AA999FB7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6A7C-62E1-4DDB-9DBC-DA912B7D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558C9-941C-40A4-9E21-3FB78B12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8EC02-55F3-4020-B481-BB8C9565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5D59-0D75-429C-9680-4D94CC0B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ED8-AFE5-481D-9BB8-9385E71B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E0F3A-4A5B-47F1-B98A-E9C4A555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98AD-4A82-458F-8A66-ABF7E637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58F63-DAD4-4C01-B552-DC2C1866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841A7-4E1F-46EC-83A6-C167EEB2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3F4EC-ABCF-4856-A807-74E6F9C0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2ADB4-99C5-4798-9FCC-6F77EE1D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53224-2DF1-41DF-8EF5-2FD5C19E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C03-EFA4-4B6C-9E7B-C5DE4A62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6F4-4AD9-452F-90FC-F9D9BF9F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8FD-39CC-4D18-8200-00A47AB4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5F8-F2B9-4A61-A960-A6D11BAE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9AB-C3BA-4F7C-9A9E-7DC1FED4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FAF-4E81-4A35-A0DD-2D9E6AFE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A99C-8B48-4E87-A634-EF3A216B6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668E-567B-49E4-9D00-5F45F6D43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C830-BDFE-44F5-904D-C2545915B3D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76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RomaK</cp:lastModifiedBy>
  <cp:lastPrinted>2008-06-08T23:00:35Z</cp:lastPrinted>
  <dcterms:modified xsi:type="dcterms:W3CDTF">2015-09-04T10:41:56Z</dcterms:modified>
  <cp:revision>20</cp:revision>
  <dc:subject/>
  <dc:title>Chapter 7</dc:title>
</cp:coreProperties>
</file>